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BDA-79DC-4ABC-9EC5-ECFF3784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8A8D-9B2A-48F0-A341-6A7F4CEC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CD06-082F-44DA-8AAF-F7102BE1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479B-7D5E-4D42-BFDB-EC9446B1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A356-3BA1-42F2-9822-E48E31CE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C302-E216-458E-97E0-AD833292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0ADE-D42C-489B-9563-F5A515F2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7FEA-BCE6-41E0-A252-D03266B0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EF04-5994-4F0A-AD7C-3FA712B3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D7C6-A30A-489A-A5BD-6BD5A31C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54BB-728F-4AE5-A4FA-41A52EAD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DF7-635E-424D-A1C9-F994964C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8101-7D79-4A2C-B2DF-8EED3A39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F0D9-7B8A-4A2A-8CB1-838A5EF1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B2BB-722C-4493-8859-221CD5C1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0239-B0DD-49CC-A020-D4DB8738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395F-613B-4D2B-9B81-5E23507E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DCB-DA27-41C3-9CBD-FA7A21C4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AAC-FEC5-4B70-A879-E3E016BA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3489-6642-4B89-A0E9-D6D3EE67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CAB0-14CB-4A48-BF41-54329B8C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55EB-7F63-4633-BF98-ADFB1DD4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43D8-D73F-4F64-93A3-CAA210DA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F6A-7234-4258-80DE-8237426D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B92E-8462-4566-9F6D-C8A4DA715D7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62CB-3E08-49BE-A726-E8DD7D5581E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Leņķu veid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92360" y="4243320"/>
            <a:ext cx="5984640" cy="1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8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ir lielāks nekā taisns un mazāks nekā izstiepts leņķis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platu leņķ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850920" y="4869000"/>
            <a:ext cx="20890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843280" y="3789000"/>
            <a:ext cx="1008000" cy="107964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0295600">
            <a:off x="3558600" y="4465080"/>
            <a:ext cx="68328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14" y="887"/>
                </a:moveTo>
                <a:arcTo wR="10800" hR="10800" stAng="-6803064" swAng="6803064"/>
                <a:lnTo>
                  <a:pt x="10800" y="10800"/>
                </a:lnTo>
                <a:close/>
              </a:path>
              <a:path fill="none" w="21600" h="21600">
                <a:moveTo>
                  <a:pt x="6514" y="887"/>
                </a:moveTo>
                <a:arcTo wR="10800" hR="10800" stAng="-6803064" swAng="6803064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Rokas ir atvērta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ai satvertu kāju u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it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tvērt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3419640" cy="298116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26920" y="21333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lielāks nekā izstiepts leņķis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atvērtu leņķi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276720" y="4581000"/>
            <a:ext cx="1224000" cy="5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4581360"/>
            <a:ext cx="16556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993120" y="4292640"/>
            <a:ext cx="126540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8" y="4641"/>
                </a:moveTo>
                <a:arcTo wR="10800" hR="10800" stAng="-8713779" swAng="8052537"/>
                <a:lnTo>
                  <a:pt x="10800" y="10800"/>
                </a:lnTo>
                <a:close/>
              </a:path>
              <a:path fill="none" w="21600" h="21600">
                <a:moveTo>
                  <a:pt x="1928" y="4641"/>
                </a:moveTo>
                <a:arcTo wR="10800" hR="10800" stAng="-8713779" swAng="8052537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ieviete pilnībā izliekusi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iln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5724360" y="1773360"/>
            <a:ext cx="3175200" cy="474984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1092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sastāv no diviem izstieptiem leņķiem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pilnu leņķi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lt-LT" sz="2800" spc="-1" strike="noStrike">
                <a:solidFill>
                  <a:srgbClr val="003366"/>
                </a:solidFill>
                <a:latin typeface="Arial"/>
              </a:rPr>
              <a:t>nulles leņķi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41720"/>
            <a:ext cx="12240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4508640"/>
            <a:ext cx="865440" cy="8650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ēģini nosaukt vēl citus piemērus, kur dabā sastopami dažādu leņķu veidi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56360" y="2996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666"/>
                </a:solidFill>
                <a:latin typeface="Arial"/>
              </a:rPr>
              <a:t>Paldies, leņķu vārdā!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tcerēsimies! Kas ir leņķi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trodi zīmējumā vism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rīs leņķus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iemēra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&lt;LKJ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&lt;IH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&lt;N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42080" y="1600200"/>
            <a:ext cx="25398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aratists izstiepis kājas  špagatā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zstiept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6372360" y="3068640"/>
            <a:ext cx="2387520" cy="2598840"/>
          </a:xfrm>
          <a:prstGeom prst="rect">
            <a:avLst/>
          </a:prstGeom>
          <a:ln w="0">
            <a:noFill/>
          </a:ln>
        </p:spPr>
      </p:pic>
      <p:sp>
        <p:nvSpPr>
          <p:cNvPr id="102" name="Straight Connector 5"/>
          <p:cNvSpPr/>
          <p:nvPr/>
        </p:nvSpPr>
        <p:spPr>
          <a:xfrm>
            <a:off x="7235280" y="3068640"/>
            <a:ext cx="990360" cy="2598840"/>
          </a:xfrm>
          <a:prstGeom prst="line">
            <a:avLst/>
          </a:prstGeom>
          <a:ln w="38160">
            <a:solidFill>
              <a:srgbClr val="003366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0000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ura malas ir pretēji stari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izstieptu leņķi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4724280"/>
            <a:ext cx="27352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rot="21448800">
            <a:off x="5297040" y="450828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" y="10288"/>
                </a:moveTo>
                <a:arcTo wR="10800" hR="10800" stAng="-10636955" swAng="10636955"/>
                <a:lnTo>
                  <a:pt x="10800" y="10800"/>
                </a:lnTo>
                <a:close/>
              </a:path>
              <a:path fill="none" w="21600" h="21600">
                <a:moveTo>
                  <a:pt x="12" y="10288"/>
                </a:moveTo>
                <a:arcTo wR="10800" hR="10800" stAng="-10636955" swAng="10636955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ieviete izstiepusi kāj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ejas solī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isn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435640" y="2276640"/>
            <a:ext cx="3390840" cy="402588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usi no izstiepta leņķa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taisnu leņķ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48360" y="5013360"/>
            <a:ext cx="16556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148360" y="4220640"/>
            <a:ext cx="0" cy="792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4797360"/>
            <a:ext cx="21564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ziedātāja pielikusi mikrafon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uvu mutei, atstājot šaur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ietu starp delnu un plec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aur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3073320" cy="408960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ir mazāks nekā taisns leņķis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šauru leņķ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1800" y="4581360"/>
            <a:ext cx="1344600" cy="657360"/>
          </a:xfrm>
          <a:custGeom>
            <a:avLst/>
            <a:gdLst/>
            <a:ahLst/>
            <a:rect l="l" t="t" r="r" b="b"/>
            <a:pathLst>
              <a:path w="847" h="414">
                <a:moveTo>
                  <a:pt x="847" y="414"/>
                </a:moveTo>
                <a:cubicBezTo>
                  <a:pt x="565" y="414"/>
                  <a:pt x="282" y="414"/>
                  <a:pt x="0" y="414"/>
                </a:cubicBezTo>
                <a:lnTo>
                  <a:pt x="770" y="0"/>
                </a:ln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360" y="4868640"/>
            <a:ext cx="430920" cy="72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40" y="158"/>
                </a:moveTo>
                <a:arcTo wR="10800" hR="10800" stAng="-4811308" swAng="4811308"/>
                <a:lnTo>
                  <a:pt x="10800" y="10800"/>
                </a:lnTo>
                <a:close/>
              </a:path>
              <a:path fill="none" w="21600" h="21600">
                <a:moveTo>
                  <a:pt x="12640" y="158"/>
                </a:moveTo>
                <a:arcTo wR="10800" hR="10800" stAng="-4811308" swAng="4811308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Baletdejotāja izpild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azā gulbīša deju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lat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5651640" y="2781360"/>
            <a:ext cx="3085920" cy="346716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1:34:28Z</dcterms:created>
  <dc:creator>Students</dc:creator>
  <dc:description/>
  <dc:language>en-US</dc:language>
  <cp:lastModifiedBy>Aira</cp:lastModifiedBy>
  <dcterms:modified xsi:type="dcterms:W3CDTF">2010-07-15T13:48:46Z</dcterms:modified>
  <cp:revision>6</cp:revision>
  <dc:subject/>
  <dc:title>Leņķu veidi</dc:title>
</cp:coreProperties>
</file>